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92D2-DFE0-4424-869E-AC7FEE9DD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22F0-BBBC-46B4-9E8C-6CF1D5928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5C45-8927-46F6-9B9C-C38C97FEE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21D5-6050-4FF6-9F59-20EF205BC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D1E0EA-1597-4903-9411-D852968E23F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AB4FB7-B4B3-46BB-B9BA-F2DF7787B84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C5B924-17ED-453A-B5FF-EDCFFEBA309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8C9463-70C6-488F-B828-3F40750C099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16754A-3494-42CF-8B56-99F0BF323D2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9C422A-071A-45EB-B60C-AF4D4CF8A9D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EBFDA2-060C-450B-894E-A449194E3B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7B9E-7532-4D34-929B-A06BDBA08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BD8B0D-45E7-4B70-8919-58B1424FA45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6F9DAD-1B4A-4914-8DF3-396AACDAF40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FDF58F-F7B8-46B3-98A2-3A03553DFD8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CB955D-B6D1-4982-BA23-66252604B69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CAFE97-454B-4479-9D3E-5A1FADAC8B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15CF-370C-420E-B546-E9A950F73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F663-5E53-4FF0-AEB6-A4328D7E1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5119-26E0-46F3-9058-E991FDA0E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1BAA-9EE3-468E-A429-61FF14EA4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3E81-7855-4963-9B86-09C4D00F7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FB09-A019-43E5-89A4-00446573A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0AC2-CFC7-4D92-B1CD-3114C123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AEB0A-3B6C-4C7E-B375-AB29AA9305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31653-19DE-4107-A55A-8F7D229F83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4.0.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the 8.4.0 Tcl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ailable for Windows, Linux, Solaris and HP-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ay come in the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(cont.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tiveTcl 8.3.4.3 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vides a basis for the Tcl Dev K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idering threaded buil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77840" y="1104840"/>
            <a:ext cx="6953400" cy="5572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cl Dev Kit: based on TclPro,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DK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beta (demo la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ActiveState 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Dev Kit 2.0 released in Aug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part of Komodo 2.0 P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-platform, x-language Tk UI buil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guibuilder" descr=""/>
          <p:cNvPicPr/>
          <p:nvPr/>
        </p:nvPicPr>
        <p:blipFill>
          <a:blip r:embed="rId1"/>
          <a:stretch/>
        </p:blipFill>
        <p:spPr>
          <a:xfrm>
            <a:off x="419040" y="1104840"/>
            <a:ext cx="8229600" cy="56404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tiveState GUI Build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4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than 2 years in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nning 4 compan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release to be governed by the TIP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less features and enhanc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ious stable release 8.3 set a new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E 8.1 will include 8.4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8.4.0 released September 10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virtual fil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mproved 64-bit support on 32-bit O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xtended serial port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lsearch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regsub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 (cont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spinbox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labelframe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paned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core Tk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Unlimited undo/redo in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tex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wid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pound buttons and lab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mproved window manager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orts now exist for native OS X/Aqua, Windows CE and Palm 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Contributo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1523880" y="1231920"/>
          <a:ext cx="6096240" cy="498780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50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n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n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udaill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ink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un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lew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vid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l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y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e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vereau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lli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rr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valenk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rehbi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z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v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ve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lsk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l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l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erhum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erme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lein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a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n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tcli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pp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guc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ahas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es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chen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r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siljev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r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sku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g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t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l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amamo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nich, June 27-28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5 original tal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lks included on the Tcl’2002 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Michael Hasch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lks and pictures on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-ide.com/tcl2002e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via VFS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848720" y="327672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99480" y="2052720"/>
            <a:ext cx="108252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79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059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88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3981600"/>
            <a:ext cx="762120" cy="320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153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77240" y="3505320"/>
            <a:ext cx="815760" cy="3492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omnipresent in EDA indus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, Map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9-11T05:41:08Z</dcterms:modified>
  <cp:revision>416</cp:revision>
  <dc:subject/>
  <dc:title>Tcl'Europe 2002 State of Tcl</dc:title>
</cp:coreProperties>
</file>