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694863" cy="7466013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slide comments provide talking points and details about examp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LP0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al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code application: Python script example_f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NLP0 solver: colin: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imple mixed-integer local search method that acts like a pattern search in the continuous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point at (10,10,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e when the solver gets below 1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blem is given a default name, and solvers use the problem with that default name unless specified otherw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following syntax is used for mixed-integer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(4: 1 0 1 1) i(2: -1 9) r(3: -1.0 2.0 1.33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5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6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Leq and Geq elements can be used to bound constrain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7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11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6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explicit transformation from MINLP0 -&gt; UMINLP0 uses a constraint penalty of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8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10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PL command syntax (using the –AMPL flag) is used within the AMPL modeling t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–help-solvers-xml is provided to assist the automatic integration of optimizers into GUI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Coliny naming convention for solvers is &lt;package&gt;:&lt;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LP0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al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code application: Python script example_f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NLP0 solver: colin: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imple mixed-integer local search method that acts like a pattern search in the continuous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point at (10,10,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e when the solver gets below 1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blem is given a default name, and solvers use the problem with that default name unless specified otherw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following syntax is used for mixed-integer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(4: 1 0 1 1) i(2: -1 9) r(3: -1.0 2.0 1.33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66200" y="309600"/>
            <a:ext cx="1371600" cy="93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54200" indent="-18252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03480" cy="1219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33320" y="1244520"/>
            <a:ext cx="822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865240" y="6807240"/>
            <a:ext cx="4343400" cy="496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732960" y="6811560"/>
            <a:ext cx="2019240" cy="498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lide </a:t>
            </a:r>
            <a:fld id="{883890FD-1CA9-4334-82E7-B2BA4CCE91C9}" type="slidenum"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24240" cy="141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6842160"/>
            <a:ext cx="5731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dia is a multiprogram laboratory operated by Sandia Corporation, a Lockheed Martin Company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the United States Department of Energy’s National Nuclear Security Administr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nder contract DE-AC04-94AL850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43000" y="6907320"/>
            <a:ext cx="968400" cy="36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2960" y="1098360"/>
            <a:ext cx="8226360" cy="733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84560" y="1747080"/>
            <a:ext cx="872496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90680" indent="0" algn="ctr">
              <a:spcBef>
                <a:spcPts val="499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810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47168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96056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2960" y="1098720"/>
            <a:ext cx="7008840" cy="1110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Introduction to th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liny Command Line Interfa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68440" y="3954600"/>
            <a:ext cx="6756480" cy="2490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lliam Hart (wehart@sandia.gov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ohn Siirola (jdsiiro@sandia.gov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andia National Laborato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09000" y="990720"/>
            <a:ext cx="18288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Simple Example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olver type="colin:ls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InitialPoin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(3: 10.1 10.1 10.1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InitialPoin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 name="accuracy"&gt;1e-3&lt;/Optio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ecut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ounds and Labeled Variables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abel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_1 x_2 x_3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Label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label="x_1" value="9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label="x_2" value="5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xed-Integer Variables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5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IntegerVars num="4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inary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nstrain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ulti-objective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O_U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olver type="colin:rmoo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 name="max_iters"&gt;20&lt;/Optio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Using System Call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ethod type=“syscal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"/>
          <p:cNvSpPr/>
          <p:nvPr/>
        </p:nvSpPr>
        <p:spPr>
          <a:xfrm>
            <a:off x="5684760" y="4191120"/>
            <a:ext cx="2987640" cy="161856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fault method to launch analysis codes is fork (on Unix) and spawn (on MS Wind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n-demand Problem Reformulation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ed implicit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trained -&gt; Unconstrained with constraint violation penal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ochastic -&gt; Nonstochastic using statistic of r.v.’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NLP -&gt; NLP (fixing integer/binary variable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LP -&gt; MINL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-&gt; Single objective (using weighted average objec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ngle objective constrained -&gt; Multi-objective unconstrained with constraint violation 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constrained -&gt; Multi-objective unconstrained with additional constraint violation 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LP0 -&gt; NLP1 (using finite difference gradient approximation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plicit reformulations also available through XML inp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Unconstrained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9000"/>
          </a:bodyPr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“UMINLP0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application="ConstraintPenalty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enalty value="10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Stochastic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S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“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tochasticObjectiv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3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NLP0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application="Sampling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amples num="1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 stat="mean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Single-Obj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O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NLP0“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lication="WeightedMultiobj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oliny Command Line Interface (Coliny) provides a single user interface for many COLIN optimizer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tivation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lexible problem/solver specif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synta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structure problem represent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xed-integer linear progra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ferentiable probl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probl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mbeddable solver 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option/value solver paramet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nal solutions archived in a cac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Unconstrain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ulti-Objective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O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MO_UNLP0“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lication="UnconstrainedMultiobj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Usage Model for Analysis Cod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369880" y="1790640"/>
            <a:ext cx="5029200" cy="2058120"/>
            <a:chOff x="2369880" y="1790640"/>
            <a:chExt cx="5029200" cy="2058120"/>
          </a:xfrm>
        </p:grpSpPr>
        <p:sp>
          <p:nvSpPr>
            <p:cNvPr id="135" name=""/>
            <p:cNvSpPr/>
            <p:nvPr/>
          </p:nvSpPr>
          <p:spPr>
            <a:xfrm>
              <a:off x="2369880" y="2590920"/>
              <a:ext cx="1028520" cy="45756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5" idx="5"/>
              <a:endCxn id="137" idx="1"/>
            </p:cNvCxnSpPr>
            <p:nvPr/>
          </p:nvCxnSpPr>
          <p:spPr>
            <a:xfrm>
              <a:off x="3293280" y="2819880"/>
              <a:ext cx="4482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741480" y="2590920"/>
              <a:ext cx="1028520" cy="457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70360" y="3390840"/>
              <a:ext cx="1599840" cy="45792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Requ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37" idx="2"/>
              <a:endCxn id="138" idx="2"/>
            </p:cNvCxnSpPr>
            <p:nvPr/>
          </p:nvCxnSpPr>
          <p:spPr>
            <a:xfrm flipH="1" rot="16200000">
              <a:off x="4306320" y="2996640"/>
              <a:ext cx="572040" cy="675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" name=""/>
            <p:cNvSpPr/>
            <p:nvPr/>
          </p:nvSpPr>
          <p:spPr>
            <a:xfrm>
              <a:off x="6370560" y="2590920"/>
              <a:ext cx="1028520" cy="457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5880" y="1790640"/>
              <a:ext cx="1599840" cy="45756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Respon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1" idx="2"/>
              <a:endCxn id="137" idx="0"/>
            </p:cNvCxnSpPr>
            <p:nvPr/>
          </p:nvCxnSpPr>
          <p:spPr>
            <a:xfrm flipV="1" rot="10800000">
              <a:off x="4255200" y="2018880"/>
              <a:ext cx="560520" cy="571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40" idx="0"/>
              <a:endCxn id="141" idx="5"/>
            </p:cNvCxnSpPr>
            <p:nvPr/>
          </p:nvCxnSpPr>
          <p:spPr>
            <a:xfrm flipV="1" rot="16200000">
              <a:off x="6203520" y="1908720"/>
              <a:ext cx="571320" cy="792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38" idx="5"/>
              <a:endCxn id="140" idx="2"/>
            </p:cNvCxnSpPr>
            <p:nvPr/>
          </p:nvCxnSpPr>
          <p:spPr>
            <a:xfrm flipV="1">
              <a:off x="6207840" y="3047760"/>
              <a:ext cx="677520" cy="572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884480" y="25909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cc99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ystem Ca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nalysisCode File Syntax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linReques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al size="3"&gt; 0.1e-1 0.1 0.1&lt;/Real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eed&gt;100&lt;/See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ques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unctionValu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Reques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olinReques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linRespons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unctionValue&gt;13.4&lt;/FunctionValu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olinRespons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ecute semantic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execute block grammar is determined at run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element is a “command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commands take an optional “rank=‘#’” attribute that specifies which process should execute the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mitting “rank” has command executed on all proces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comman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mandLoo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solver registers its id as a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b-elements are parsed by the command processor itsel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imple hybrid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id=“b”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plex hybrid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b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c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a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(3: 1.0 2.0 3.0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FinalPoints cache=“a_ans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b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(3: 11.0 12.0 13.0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FinalPoints cache=“b_ans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b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MergeCaches in1=“a_ans”, in2=“b_ans” out=“tmp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c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 cache=“tmp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c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pothetical ABO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 name=“max_iters”, value=“20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b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c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abo”, type=“abo”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a”, problem=“xxx”, initializer=“best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b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c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master rank=“0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 name=“ddd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bo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utstanding Issu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ment of asynchronous evalu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ment of cached evalu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ngle-objective and Pareto cach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ybrid solvers in XM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rious reformulations are in development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of new solver libr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MHlib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++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EG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rror handling in solvers/applic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vailabilit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oliny command is built with the Acro software reposito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software.sandia.gov/Ac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urrent webpage documents Acro 1.0 / Colin 2.0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 and XML functionality are both new features under development for inclusion as part of the upcoming Acro 2.0 / Colin 3.0 release (tentatively December 2008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Featur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uctured XML syntax for defining problems and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quential specification of multiple problems and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problem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option/value parameterization of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ic XML interface for external analysis cod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nsible application response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AKOTA vs. Colin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r … why do we need another optimization interfac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KO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multi-level parallel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UQ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surrogate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OUU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different domain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different problem types and problem transform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nsible support for new analysis code response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re flexible support for hybrids (in the future…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mand Line Syntax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447920"/>
            <a:ext cx="86868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oliny --help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[options] &lt;arg1&gt; &lt;arg2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&lt;*.nl&gt; -AMP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[options] &lt;colin-xml-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 is a COLIN optimizer executable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ons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debug-solver-params   Print solver option values before running i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help-options          Print options for specified solver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help-solvers-xml      Print the list of solvers supported by th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ecutable to a file using an XML forma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s, --help-solvers          Print the list of solvers supported by th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ecutable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h, --help                  Display usage inform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repetitions           The number of times that the solver is rerun (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eck that solver reset() methods work)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use-abort             Force an abort when an error occurs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verbose               Verbose printing during optimization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itional optimizer options can be specified within AMPL or the COLIN X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isting Coliny Solver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5392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oliny --help-solver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s defined in 'coliny'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s:APP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APPS derivative-fre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s:app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 alias to solver_nam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byla:Cobyl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Cobyla2 derivative-fre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byla:cobyl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 alias to solver_nam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GradientDescent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gradient descent local 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RandomMO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random multi-objectiv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SimpleMILocal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mixed-integer local 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 XML Input Specific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centralized Parser / Interpret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ong dependence on factory and registry design patter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rammar may be extended at run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 is an interpreter for the COLIN XML specif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a compil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oot elemen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re “paragraphs” (each may appear more than on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blem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an optimization problem (i.e. interface to function evaluator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an optimiz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the sequence of actions that Coliny should tak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roblem Specific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m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al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er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nary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i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rnal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S Method( fork/spawn or syscall 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Simplest Example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roblem application="AMPL"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Lfile name="problem.nl"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type="colin:ls"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xecute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04:12:09Z</dcterms:created>
  <dc:creator>Sandia National Laboratories</dc:creator>
  <dc:description/>
  <dc:language>en-US</dc:language>
  <cp:lastModifiedBy>John D. Siirola</cp:lastModifiedBy>
  <dcterms:modified xsi:type="dcterms:W3CDTF">2008-12-04T22:08:49Z</dcterms:modified>
  <cp:revision>21</cp:revision>
  <dc:subject/>
  <dc:title>An Introduction to the COLIN Optimization Interface</dc:title>
</cp:coreProperties>
</file>