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E4F-283D-4AB7-A1EF-D2D97CBE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C79-44D9-4222-AB90-830C1CD7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C52-EC43-4336-8DB3-2F53789C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8CF-33E0-4910-923F-D7051CBD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DCC-32A0-46E4-8DCF-ABDCCE6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344-6F80-4843-A014-830243A0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E04-08BC-489C-86E7-D3D3678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A85-79DF-4545-87E2-873F8036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345-E6B1-4D87-85E0-07DA6C18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FAE-204D-4F04-B57D-BEE68BD9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316-D70D-49E1-8F41-B71BD74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6C4-9359-4F29-9B5E-FBA36AA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4EEC-6B58-481C-BBA2-E6A7DFA72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0"/>
          <p:cNvSpPr/>
          <p:nvPr/>
        </p:nvSpPr>
        <p:spPr>
          <a:xfrm>
            <a:off x="1676520" y="990720"/>
            <a:ext cx="57150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038480" y="1600200"/>
            <a:ext cx="1295640" cy="3048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562720" y="1981080"/>
            <a:ext cx="1295280" cy="2286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772400" y="2209680"/>
            <a:ext cx="1066680" cy="60984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772400" y="39625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752480" y="1600200"/>
            <a:ext cx="2057400" cy="2666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35053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 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41911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343400" y="2514600"/>
            <a:ext cx="762120" cy="76212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114800" y="3276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3"/>
          <p:cNvSpPr/>
          <p:nvPr/>
        </p:nvSpPr>
        <p:spPr>
          <a:xfrm>
            <a:off x="1981080" y="22096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23623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1981080" y="28195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1981080" y="35812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8"/>
          <p:cNvSpPr/>
          <p:nvPr/>
        </p:nvSpPr>
        <p:spPr>
          <a:xfrm flipH="1">
            <a:off x="2588760" y="2668680"/>
            <a:ext cx="324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1371600" y="380988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3276720" y="22096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3276720" y="281952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276720" y="35812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hape 28"/>
          <p:cNvCxnSpPr>
            <a:endCxn id="47" idx="2"/>
          </p:cNvCxnSpPr>
          <p:nvPr/>
        </p:nvCxnSpPr>
        <p:spPr>
          <a:xfrm flipV="1" rot="16200000">
            <a:off x="3295440" y="3752280"/>
            <a:ext cx="228600" cy="1257840"/>
          </a:xfrm>
          <a:prstGeom prst="bentConnector3">
            <a:avLst>
              <a:gd name="adj1" fmla="val -78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29"/>
          <p:cNvSpPr/>
          <p:nvPr/>
        </p:nvSpPr>
        <p:spPr>
          <a:xfrm>
            <a:off x="2362320" y="4505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 citizen sees all returned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5638680" y="20685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Magnetic Disk 31"/>
          <p:cNvSpPr/>
          <p:nvPr/>
        </p:nvSpPr>
        <p:spPr>
          <a:xfrm>
            <a:off x="5715000" y="2666880"/>
            <a:ext cx="990720" cy="129564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unction Value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hape 33"/>
          <p:cNvCxnSpPr>
            <a:stCxn id="43" idx="2"/>
          </p:cNvCxnSpPr>
          <p:nvPr/>
        </p:nvCxnSpPr>
        <p:spPr>
          <a:xfrm rot="5400000">
            <a:off x="5657400" y="3943080"/>
            <a:ext cx="228960" cy="876960"/>
          </a:xfrm>
          <a:prstGeom prst="bentConnector3">
            <a:avLst>
              <a:gd name="adj1" fmla="val 1006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34"/>
          <p:cNvSpPr/>
          <p:nvPr/>
        </p:nvSpPr>
        <p:spPr>
          <a:xfrm>
            <a:off x="5410080" y="44956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returned as evaluation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hape 38"/>
          <p:cNvCxnSpPr/>
          <p:nvPr/>
        </p:nvCxnSpPr>
        <p:spPr>
          <a:xfrm>
            <a:off x="5334120" y="1752120"/>
            <a:ext cx="87696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39"/>
          <p:cNvSpPr/>
          <p:nvPr/>
        </p:nvSpPr>
        <p:spPr>
          <a:xfrm>
            <a:off x="5486400" y="1228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submitted when workers become 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2"/>
          <p:cNvSpPr/>
          <p:nvPr/>
        </p:nvSpPr>
        <p:spPr>
          <a:xfrm flipV="1">
            <a:off x="6858000" y="1752480"/>
            <a:ext cx="9144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4"/>
          <p:cNvSpPr/>
          <p:nvPr/>
        </p:nvSpPr>
        <p:spPr>
          <a:xfrm flipV="1">
            <a:off x="6858000" y="2514240"/>
            <a:ext cx="914400" cy="60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46"/>
          <p:cNvSpPr/>
          <p:nvPr/>
        </p:nvSpPr>
        <p:spPr>
          <a:xfrm>
            <a:off x="6858000" y="3124080"/>
            <a:ext cx="91440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8077320" y="299556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85800" y="4114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0"/>
          <p:cNvCxnSpPr>
            <a:stCxn id="58" idx="6"/>
            <a:endCxn id="50" idx="1"/>
          </p:cNvCxnSpPr>
          <p:nvPr/>
        </p:nvCxnSpPr>
        <p:spPr>
          <a:xfrm>
            <a:off x="3733920" y="2438280"/>
            <a:ext cx="721440" cy="18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Straight Arrow Connector 52"/>
          <p:cNvCxnSpPr>
            <a:stCxn id="59" idx="6"/>
            <a:endCxn id="50" idx="2"/>
          </p:cNvCxnSpPr>
          <p:nvPr/>
        </p:nvCxnSpPr>
        <p:spPr>
          <a:xfrm flipV="1">
            <a:off x="3733920" y="2895840"/>
            <a:ext cx="60984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Straight Arrow Connector 54"/>
          <p:cNvCxnSpPr>
            <a:stCxn id="60" idx="6"/>
            <a:endCxn id="50" idx="3"/>
          </p:cNvCxnSpPr>
          <p:nvPr/>
        </p:nvCxnSpPr>
        <p:spPr>
          <a:xfrm flipV="1">
            <a:off x="3733920" y="3165120"/>
            <a:ext cx="72144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" name="TextBox 37"/>
          <p:cNvSpPr/>
          <p:nvPr/>
        </p:nvSpPr>
        <p:spPr>
          <a:xfrm>
            <a:off x="3200400" y="100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17T20:45:54Z</dcterms:modified>
  <cp:revision>24</cp:revision>
  <dc:subject/>
  <dc:title>Slide 1</dc:title>
</cp:coreProperties>
</file>