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83707"/>
        <c:axId val="21093528"/>
      </c:barChart>
      <c:catAx>
        <c:axId val="98583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93528"/>
        <c:crosses val="autoZero"/>
        <c:auto val="1"/>
        <c:lblAlgn val="ctr"/>
        <c:lblOffset val="100"/>
        <c:noMultiLvlLbl val="0"/>
      </c:catAx>
      <c:valAx>
        <c:axId val="21093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83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515-2302-4702-889F-C49C7DE4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2C6-FD23-42F3-89D5-209B3D83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B4F-9D24-441F-831C-3A9C62B5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6EA-2C5E-4B68-A387-31A4F348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D3E-7ED8-41EA-8930-F0737139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F63-74A4-4B4D-9BFF-52867B96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EDB-872C-41A7-BB12-9A497DC2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66D-468B-433B-8CC6-F6140EF2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317-C5EF-40BE-B7DC-636B7E24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D02-7D06-48B1-BF6B-02B40CB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411-C783-47DF-9915-0668E77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B16-CB2A-43FB-8174-A09BA117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43204-4529-40E6-9AB4-8B5D04B6B1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