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25139"/>
        <c:axId val="5807685"/>
      </c:barChart>
      <c:catAx>
        <c:axId val="69925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7685"/>
        <c:crosses val="autoZero"/>
        <c:auto val="1"/>
        <c:lblAlgn val="ctr"/>
        <c:lblOffset val="100"/>
        <c:noMultiLvlLbl val="0"/>
      </c:catAx>
      <c:valAx>
        <c:axId val="5807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25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B41-5DFD-4181-8743-182A4790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79C-8FB9-4FA5-A662-4923271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676-2828-43E2-A8C1-5322E404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F71-B791-4BBD-A321-6F32EA2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1BA-C3C3-46C4-837F-49A32E17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02B-166F-4041-AA21-0DD3523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854-11B8-47B3-95AF-DBB02EEE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DB3-2D9E-4860-BDB7-76948C27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D9E-801C-482E-AB72-1360CE6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A28-C803-4F97-B06A-65D08C0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AC6-674D-4918-B762-815EA6AA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1DA-1DDB-46D0-9680-D77077A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7B5F5-C9B3-40B9-A6C4-7D4807791A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