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42037"/>
        <c:axId val="97562810"/>
      </c:barChart>
      <c:catAx>
        <c:axId val="47642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2810"/>
        <c:crosses val="autoZero"/>
        <c:auto val="1"/>
        <c:lblAlgn val="ctr"/>
        <c:lblOffset val="100"/>
        <c:noMultiLvlLbl val="0"/>
      </c:catAx>
      <c:valAx>
        <c:axId val="97562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42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16D-252D-4B83-BF99-E6B945BF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04A-C5E1-4FFD-83E8-BED7E87D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19C-AA36-4855-B7A3-C71AD83B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EFCE-77E0-4C5B-A56C-43D5E2C3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36E-B075-4A67-A5B6-07A48E1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4FB-1C48-4401-8F35-C5EBF649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185-E611-49E7-9A58-06CBC16E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29C-C9E1-400E-8FA8-02F7BDD0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B59-F5DE-48F7-8D7A-B8C5F11E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EE7-1A31-47B7-B97D-DFD27108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090-3E29-4798-B0A1-44C8763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4A8-EC68-46BF-BABE-2A496E1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52199-3522-461E-90BF-2CE4135E63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